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1C8753B0-D741-407F-A0D0-41657A4ED4D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0" y="2286000"/>
            <a:ext cx="838080" cy="276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B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342900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533520"/>
            <a:ext cx="106704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676520"/>
            <a:ext cx="106704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ail System 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743200"/>
            <a:ext cx="632484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3092400"/>
            <a:ext cx="8380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care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092400"/>
            <a:ext cx="8380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trai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3065400"/>
            <a:ext cx="121932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life ev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981080"/>
            <a:ext cx="106704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favori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4006800"/>
            <a:ext cx="9903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Da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152280"/>
            <a:ext cx="251460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y service corn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717480"/>
            <a:ext cx="76212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rocop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1295280"/>
            <a:ext cx="76176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457200"/>
            <a:ext cx="76176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vel spa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1066680"/>
            <a:ext cx="76212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Internal resources reserv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153280" y="1049400"/>
            <a:ext cx="91440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Non work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33520"/>
            <a:ext cx="228600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News Roo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3092400"/>
            <a:ext cx="137160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administ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692600"/>
            <a:ext cx="9903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work ev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53280" y="457200"/>
            <a:ext cx="91440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Company sho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3092400"/>
            <a:ext cx="9903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092400"/>
            <a:ext cx="7617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pack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57200"/>
            <a:ext cx="76212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Web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2666880"/>
            <a:ext cx="76212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Who’s wh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3397320"/>
            <a:ext cx="76212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Codes &amp; valu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2590920"/>
            <a:ext cx="76176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Profile &amp; strateg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3762360"/>
            <a:ext cx="76212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Presentation tool bo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2959200"/>
            <a:ext cx="76212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Organization cha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1880" y="298620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067280"/>
            <a:ext cx="76212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tandard company prese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empla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Logos, pict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Visual cha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1880" y="428292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Key fig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1880" y="516564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1880" y="455616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Key peop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1880" y="3214800"/>
            <a:ext cx="60984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ission stat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n brief..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tructure organiz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1880" y="5394240"/>
            <a:ext cx="60984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Annual repo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ompany leafle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1880" y="481644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Key repor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1880" y="3946680"/>
            <a:ext cx="609840" cy="27684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roducts &amp;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2349360"/>
            <a:ext cx="1600200" cy="2102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y organ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685800"/>
            <a:ext cx="76176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ime tab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Book an hot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Book train / plane ticke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Rent a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1508040"/>
            <a:ext cx="76212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eeting ro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ater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T equip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(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53280" y="1295280"/>
            <a:ext cx="91440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p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mall ad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investm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Weather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end e-mail to GS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(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152388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empla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Fo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slet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(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762120"/>
            <a:ext cx="106704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jor new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 on this s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o Do’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o Appro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nding reque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Ale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ush of specific events (survey.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78264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01124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247760"/>
            <a:ext cx="121932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nnov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Health &amp; environ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“</a:t>
            </a: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eregulation”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Energy saving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rketing &amp; sponsor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ustainable developpement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795240"/>
            <a:ext cx="9144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1600200"/>
            <a:ext cx="9144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1069920"/>
            <a:ext cx="9144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slet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epartment No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Employee not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380880"/>
            <a:ext cx="15238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business knwoled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901800"/>
            <a:ext cx="15238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Workspace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1219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(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44" idx="3"/>
            <a:endCxn id="54" idx="1"/>
          </p:cNvCxnSpPr>
          <p:nvPr/>
        </p:nvCxnSpPr>
        <p:spPr>
          <a:xfrm flipV="1">
            <a:off x="5410080" y="267840"/>
            <a:ext cx="1067400" cy="21567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97" name=""/>
          <p:cNvSpPr/>
          <p:nvPr/>
        </p:nvSpPr>
        <p:spPr>
          <a:xfrm>
            <a:off x="76320" y="3321000"/>
            <a:ext cx="99036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essage from HR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ontact H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FAQ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Annouc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4235400"/>
            <a:ext cx="99036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rganization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rofession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son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35268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sala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411480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stock opti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504684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Pens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579132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insur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58128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pay sli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ax 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41972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sonal stat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525780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sonal stat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335268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evalu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57200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CV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87692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581280"/>
            <a:ext cx="83808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formance appraisal (metho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formance appraisal (applica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elf assessment too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ompetenc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op 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Leader for the fu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102280"/>
            <a:ext cx="83808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Gener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Jobs (consult &amp; appl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339732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ining sched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422280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ining follow-u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5105520"/>
            <a:ext cx="838080" cy="27684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ining profiling too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701880"/>
            <a:ext cx="838080" cy="2768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raining polic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raining catalo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540320"/>
            <a:ext cx="83808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raining evalu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previous train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497052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Joining  the compan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6280200"/>
            <a:ext cx="990360" cy="27684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International assign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522612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Leaving the compan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547200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Retir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575928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Career brea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600552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Work / travel accid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3386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ime &amp; Expens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5672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sha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795840"/>
            <a:ext cx="1371600" cy="2768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pring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pring 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1324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343400"/>
            <a:ext cx="137160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private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company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Fuel car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95288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GS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5138640"/>
            <a:ext cx="137160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r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55040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Corporate Credit car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6326280"/>
            <a:ext cx="1371600" cy="2768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twork , Mobile equipment, SW, Acc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29600" y="6039000"/>
            <a:ext cx="762120" cy="1854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6039000"/>
            <a:ext cx="1143000" cy="64260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Suggestion bo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44" idx="1"/>
            <a:endCxn id="48" idx="0"/>
          </p:cNvCxnSpPr>
          <p:nvPr/>
        </p:nvCxnSpPr>
        <p:spPr>
          <a:xfrm flipV="1" rot="10800000">
            <a:off x="3314160" y="2424240"/>
            <a:ext cx="1257840" cy="3193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4" name=""/>
          <p:cNvCxnSpPr>
            <a:stCxn id="44" idx="1"/>
            <a:endCxn id="45" idx="3"/>
          </p:cNvCxnSpPr>
          <p:nvPr/>
        </p:nvCxnSpPr>
        <p:spPr>
          <a:xfrm rot="10800000">
            <a:off x="3657600" y="344160"/>
            <a:ext cx="914760" cy="20804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5" name=""/>
          <p:cNvCxnSpPr>
            <a:stCxn id="44" idx="1"/>
            <a:endCxn id="93" idx="1"/>
          </p:cNvCxnSpPr>
          <p:nvPr/>
        </p:nvCxnSpPr>
        <p:spPr>
          <a:xfrm rot="10800000">
            <a:off x="4191120" y="480960"/>
            <a:ext cx="381240" cy="1943640"/>
          </a:xfrm>
          <a:prstGeom prst="bentConnector3">
            <a:avLst>
              <a:gd name="adj1" fmla="val 161342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6" name=""/>
          <p:cNvCxnSpPr>
            <a:stCxn id="44" idx="1"/>
            <a:endCxn id="94" idx="1"/>
          </p:cNvCxnSpPr>
          <p:nvPr/>
        </p:nvCxnSpPr>
        <p:spPr>
          <a:xfrm rot="10800000">
            <a:off x="4191120" y="1001520"/>
            <a:ext cx="381240" cy="1422720"/>
          </a:xfrm>
          <a:prstGeom prst="bentConnector3">
            <a:avLst>
              <a:gd name="adj1" fmla="val 161342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7" name=""/>
          <p:cNvSpPr/>
          <p:nvPr/>
        </p:nvSpPr>
        <p:spPr>
          <a:xfrm>
            <a:off x="8153280" y="762120"/>
            <a:ext cx="91440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715000"/>
            <a:ext cx="137160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r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609588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IT equipment &amp;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35268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Family ev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4495680"/>
            <a:ext cx="9144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475632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Abs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3581280"/>
            <a:ext cx="1219320" cy="10998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regnanc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 child (birth, adop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hange in dependancy status of chil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rriage or cohabi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hange in dependancy status of spou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ivorce or separ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eath of a rel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ther (holy communions, jury duty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5029200"/>
            <a:ext cx="1219320" cy="91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lln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aid leave for specific ev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Unpaid leave for family reas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Unpaid 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Youth 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aid educational 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Recuperation over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605160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Bank chang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76320"/>
            <a:ext cx="152388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y communit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627120"/>
            <a:ext cx="1523880" cy="19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1135080"/>
            <a:ext cx="1523880" cy="19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dc:language>en-US</dc:language>
  <cp:lastModifiedBy>d003179</cp:lastModifiedBy>
  <cp:lastPrinted>2000-05-10T17:23:18Z</cp:lastPrinted>
  <dcterms:modified xsi:type="dcterms:W3CDTF">2003-06-26T15:05:15Z</dcterms:modified>
  <cp:revision>455</cp:revision>
  <dc:subject/>
  <dc:title>Sample Kick-Off Meeting Presentation</dc:title>
</cp:coreProperties>
</file>